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B77-956B-42BB-B8BF-0A639377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4F54-D060-4BAF-851B-5EF38AA2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5A3C3-EE09-4534-A175-3C7985DD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1F706-E585-431D-A99C-FF850C549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358CD9-3EC9-4AA8-8E22-A0CD2C83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B9009-E88D-4F35-BCFB-64F930F5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459BF8-F4F1-403A-9CEE-17EC9902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5D0A4-CACB-46FE-9782-0C651742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C3362-CD2D-4A24-BA6D-5A73253C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288BD-A85C-4BFF-A120-B577A507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D691C-B5E3-42FD-9284-0492022B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7A4F1-0876-44F9-A656-CCEAE56F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FD20-6E7C-4F0B-A094-94FF40AD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1C0E3-DDEA-453A-9458-84FD08C4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7452B-4A1E-49CD-AA82-F8078E13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1B743-150F-4E91-BA4B-B668FEDB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9D3F1-DBD4-4494-AEC1-321B3D25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C9E12-9C58-4D3E-B1B0-7E46F6E8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DD00F-AFC2-4D1D-9C9A-3721B908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CD94E-16D8-416C-B10E-29C9453BD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A4DF1-E6B2-44C2-8F50-B0604057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2950A-7E94-4AB1-8303-C154809C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60A2DB-A185-42B6-A9A3-6CFE8C60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16B-6D56-4271-8300-FB598FA0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CA0CD2-8349-45C8-BD98-E2B147DB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4ADA4-C45E-4D4F-BF5A-62067A6D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D1E1E-343F-42DC-B1EC-DE562878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D68E7-6851-4F75-96F7-BF3D4046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EB3D9-8CB4-4A86-BB87-FFF632E0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3DA42-35F7-4986-9C7A-13F8C87D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5390D6-3896-443A-B805-8A89EA66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49E04-5F40-43BF-A6EC-4DCF2079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738F3-5A82-4D8F-9ACF-5CCE4672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99D8C-BD2C-4827-AA88-47D46D2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8451-B1B5-4DE4-8072-FB5C7E92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87698-9B84-4DB1-9DB2-F48915E9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4D924-690F-4183-9375-D75653EB0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B8E33-0D1B-411B-BF0B-36FB40111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C46FB-3C26-4AD7-BA1F-9BDD43BC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0B230-E8C2-4A6A-930B-FD590AA3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0F45F-9923-4734-8673-213D5AAC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F22007-9CD9-4A88-820A-E764642A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08E5D-DEB3-416E-8AD0-2631E470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E0A62-D857-4EE5-A8CA-65A8CA73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172B4-9D3E-4384-B9C1-3F27FC59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B031-AFD5-4DBF-B558-AC9D37F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9B08C-1942-46FF-B146-04FC211F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47C5C-0DFF-435E-A944-212CE4D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42A9C1-F90E-49CD-9BF8-D3A5B7C8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658AA-F643-4C66-90D7-1838DCAB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96D84-B08F-4634-AD69-AECA3401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5F26-B9B5-4B95-A6E6-89286970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124F-6BA4-4F2B-91FD-2AF1E9BB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2D7C-3151-4F41-B752-0E1A8161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2234-95E4-43E7-8252-60095AF6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82E6-E537-49AC-AAB2-00FDBD56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6BE-C9E6-4EC9-9E16-857A9163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C9D6-EE3B-4C91-A702-9BD101EC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C985-6543-40C2-A6EC-10E12FEC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B7A2-83AC-46F3-8377-28C298AC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B8BB-2E35-429D-85B6-F797EBC9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3EE1-4641-4385-A9A4-32E404AA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D3B9-AAC4-47E5-8313-4902FE0C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A24A3-5109-4F51-AD4D-3652DA19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6D84-AB7D-4979-AFAF-7826547E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19D87-1054-4E15-929B-03914EBD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70921-5E24-42F2-AB19-8D1669F2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5F8F-C6A0-4CF8-872F-7B3E57C0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2FFE8-2D07-4538-977F-BB9EF2E2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CD95-726E-4BD3-9A25-C9C9B0F8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9CB1-CE53-4B1A-B941-185DEBB6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FC678-BDDF-4B78-B9B2-6F7AB39B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9E64-5FA1-49F6-9A86-4C6DE8FF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17B3-F127-41E9-B2A5-8C45A8BE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08858-0A14-4603-921C-39D1D19F6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25DD-093D-4050-97F8-81BBECDB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2BACC-6F15-4D4B-BD1F-E364385AD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4124B-8334-4C87-90F6-72500EAA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FF95-0B74-45F8-9684-8C09F5E7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E3CDB-9C43-4867-B9A6-60AF807A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52230-1A15-4180-8F23-F6B824E28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0F41-8BB4-44E2-811F-0290C17B4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87232-C797-4116-ABBE-80C26EF7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0A62-910B-4D75-96FE-A583F2A3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1AD1-1FD0-4723-ABEE-C29FE986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1DB88-1490-4AD7-950D-803E78AB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1EC9-407A-4214-9752-98AA2E315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02F79-B5D5-4593-A2FB-82694BBE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238A7-611B-4779-981E-01BC56B5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0BA-7B5E-479C-B168-ECA1CC09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BDC0E-3DD0-4240-8D87-8E1D2F26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3008A-67C0-485B-8BE1-65326469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65A8A-BCE0-45BC-9D0A-ACC1F0AC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8D7AB-1B3C-42E3-86F6-A8377AC2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3A326-F6E7-4633-BF04-222B1134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D03D4-49A8-4E76-8A30-DAE8B3E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D8A7-EEA6-4DCB-A0C9-8406B9E3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C35F5-EDA0-43D3-BEB9-37BC8AA4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E42C3-FBC5-461D-9794-90E7C830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D857F-3489-4B15-8BAE-911CD80F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B5E0-3910-4606-A4BD-FD923867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226FF-F91B-4FD3-B56F-ED7144F88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1D2E-7326-48D7-A026-D19578D8C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205A3-6F85-4391-8316-58C6BFAA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912E9-F2C1-4A93-BCB6-518C1268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779E0-81A3-474F-8380-1962812D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54D11-1E03-42BA-AA2F-9E821FBB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942B0-DEDF-4D62-9B15-8DA159E11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2E3F3-B13C-4761-BA04-72279ECA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F1C4A-1DFD-4E19-9E61-9E7F79D2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04C00-BF12-45D0-9F5C-B4509E79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486-BE6F-4A72-BA9C-04D2B6D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A78C9-CF7A-441E-9D15-5B94403E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6CF25-701E-43AA-835E-35585F58A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5ECEB-F2BA-4713-9C86-665B9BDA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C9F12-6A13-447A-B3D0-A9B588372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8D318-4241-4D0B-B49C-337C4A7E8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79962-9F6A-44FF-9EC2-90AA3281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4BACD-E6BF-4C98-9C49-EC77265F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B7E50-7189-4DB0-B429-F23B1EE9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A1859-A42F-494E-BEAF-436E40C3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406B0-1397-4C5A-9FFE-10927C5A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F57C-BE7D-4397-9767-071B1F70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A0896-4871-42CD-8496-9BC75BC5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E9980-2AD9-4D3C-902F-F47B73F8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854D7-A729-49E5-9469-E04FA95F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507E-61E4-4ED8-9183-0008E01A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F29F4-D69C-4D82-97AA-8F70EC39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CC015-148C-4679-A7B2-78A43C92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E754D-8EB9-4533-A443-AF429C67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C6FE4-E85C-44C3-8705-075E0E8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21B16-9EA9-440D-801B-5206D09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C6E74-029E-42ED-918F-2926A531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4E82-A807-4A02-AF1E-73B48BF1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8538-71CE-4095-B2CC-6C4AF861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B67CC-F0D0-4FEB-988C-5E72A827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B571F-8582-42F8-A5B9-3B2C20CC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519F2-2227-47A7-8CD5-A957CED7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B3D0D-10EF-4D77-8583-4B71A30D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7F53E-3930-4CF1-A52F-8D80A3B5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0E4F2-A628-4827-ABC2-151B72C6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2DF26-3104-42CE-A070-95F9E7B4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2FA1D-AE58-428E-842C-E92D1D51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3302C-5CD2-4041-A467-29D01CF9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6865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6866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6867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6868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6869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6870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6871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9C79-1A5E-45A5-8148-C7F99150762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71F4-9160-4D69-8F5E-6FE8D88533E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778-769F-4000-BE88-B5E56F696A6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00D6-5E4B-458A-A64E-64124873D03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7889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7890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7891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7892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7893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7894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7895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2EED-A172-4952-B322-6CF9C96B40B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68DA-6A16-42D8-AFDC-E1E2884B9CB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5704-CC82-4CFE-A0A2-ABF2DA8DBE5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7E32-5737-4BA2-BA2D-D6ACFD00FEC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B082-A106-4426-9FE0-184EF4C8712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83B6-A6D3-438D-A176-078FDB67CE4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DC451-93C7-4080-A0A5-AC76B8F74EE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lspj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8656-2CEA-4BD8-A0E0-ED5BC97CD02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图片 3081" descr="QQ截图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510" name="矩形 3082"/>
          <p:cNvSpPr txBox="1"/>
          <p:nvPr/>
        </p:nvSpPr>
        <p:spPr>
          <a:xfrm>
            <a:off x="1763640" y="2565360"/>
            <a:ext cx="314820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uFillTx/>
                <a:latin typeface="宋体"/>
              </a:rPr>
              <a:t>升国旗</a:t>
            </a:r>
            <a:endParaRPr b="1" i="1" lang="en-US" sz="2400" spc="-1" strike="noStrike" u="sng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8" name=""/>
          <p:cNvGraphicFramePr/>
          <p:nvPr/>
        </p:nvGraphicFramePr>
        <p:xfrm>
          <a:off x="5219640" y="2421000"/>
          <a:ext cx="306216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12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shēn</a:t>
            </a:r>
            <a:r>
              <a:rPr b="0" i="1" lang="zh-CN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ɡ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0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zhōn</a:t>
            </a:r>
            <a:r>
              <a:rPr b="0" i="1" lang="zh-CN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ɡ</a:t>
            </a: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升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2" name="Text Box 30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中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43" name="图片 13342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6" name="Group 4"/>
          <p:cNvGrpSpPr/>
          <p:nvPr/>
        </p:nvGrpSpPr>
        <p:grpSpPr>
          <a:xfrm>
            <a:off x="1979640" y="476280"/>
            <a:ext cx="5688000" cy="5300640"/>
            <a:chOff x="1979640" y="476280"/>
            <a:chExt cx="5688000" cy="5300640"/>
          </a:xfrm>
        </p:grpSpPr>
        <p:sp>
          <p:nvSpPr>
            <p:cNvPr id="547" name="Rectangle 5"/>
            <p:cNvSpPr/>
            <p:nvPr/>
          </p:nvSpPr>
          <p:spPr>
            <a:xfrm>
              <a:off x="197964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Line 6"/>
            <p:cNvSpPr/>
            <p:nvPr/>
          </p:nvSpPr>
          <p:spPr>
            <a:xfrm>
              <a:off x="197964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9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335268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升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51" name="图片 14345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3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4" name="Group 3"/>
          <p:cNvGrpSpPr/>
          <p:nvPr/>
        </p:nvGrpSpPr>
        <p:grpSpPr>
          <a:xfrm>
            <a:off x="1332000" y="549360"/>
            <a:ext cx="5688000" cy="5300640"/>
            <a:chOff x="1332000" y="549360"/>
            <a:chExt cx="5688000" cy="5300640"/>
          </a:xfrm>
        </p:grpSpPr>
        <p:sp>
          <p:nvSpPr>
            <p:cNvPr id="555" name="Rectangle 4"/>
            <p:cNvSpPr/>
            <p:nvPr/>
          </p:nvSpPr>
          <p:spPr>
            <a:xfrm>
              <a:off x="1332000" y="54936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Line 5"/>
            <p:cNvSpPr/>
            <p:nvPr/>
          </p:nvSpPr>
          <p:spPr>
            <a:xfrm>
              <a:off x="1332000" y="321300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7" name="Line 6"/>
          <p:cNvSpPr/>
          <p:nvPr/>
        </p:nvSpPr>
        <p:spPr>
          <a:xfrm>
            <a:off x="4140360" y="54936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7168320" y="333360"/>
            <a:ext cx="789840" cy="73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左边撇小小右边竖长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8"/>
          <p:cNvSpPr/>
          <p:nvPr/>
        </p:nvSpPr>
        <p:spPr>
          <a:xfrm>
            <a:off x="2633760" y="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升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0" name="图片 15369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1979640" y="765000"/>
            <a:ext cx="5688000" cy="5300640"/>
            <a:chOff x="1979640" y="765000"/>
            <a:chExt cx="5688000" cy="5300640"/>
          </a:xfrm>
        </p:grpSpPr>
        <p:sp>
          <p:nvSpPr>
            <p:cNvPr id="564" name="Rectangle 5"/>
            <p:cNvSpPr/>
            <p:nvPr/>
          </p:nvSpPr>
          <p:spPr>
            <a:xfrm>
              <a:off x="1979640" y="76500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6"/>
            <p:cNvSpPr/>
            <p:nvPr/>
          </p:nvSpPr>
          <p:spPr>
            <a:xfrm>
              <a:off x="1979640" y="342864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6" name="Line 7"/>
          <p:cNvSpPr/>
          <p:nvPr/>
        </p:nvSpPr>
        <p:spPr>
          <a:xfrm>
            <a:off x="4859280" y="765000"/>
            <a:ext cx="0" cy="5328000"/>
          </a:xfrm>
          <a:prstGeom prst="line">
            <a:avLst/>
          </a:prstGeom>
          <a:ln w="572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3425760" y="18900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中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8" name="图片 16392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Line 2"/>
          <p:cNvSpPr/>
          <p:nvPr/>
        </p:nvSpPr>
        <p:spPr>
          <a:xfrm>
            <a:off x="1692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1" name="Group 4"/>
          <p:cNvGrpSpPr/>
          <p:nvPr/>
        </p:nvGrpSpPr>
        <p:grpSpPr>
          <a:xfrm>
            <a:off x="1908000" y="476280"/>
            <a:ext cx="5688000" cy="5300640"/>
            <a:chOff x="1908000" y="476280"/>
            <a:chExt cx="5688000" cy="5300640"/>
          </a:xfrm>
        </p:grpSpPr>
        <p:sp>
          <p:nvSpPr>
            <p:cNvPr id="572" name="Rectangle 5"/>
            <p:cNvSpPr/>
            <p:nvPr/>
          </p:nvSpPr>
          <p:spPr>
            <a:xfrm>
              <a:off x="1908000" y="476280"/>
              <a:ext cx="5688000" cy="5300640"/>
            </a:xfrm>
            <a:prstGeom prst="rect">
              <a:avLst/>
            </a:prstGeom>
            <a:noFill/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Line 6"/>
            <p:cNvSpPr/>
            <p:nvPr/>
          </p:nvSpPr>
          <p:spPr>
            <a:xfrm>
              <a:off x="1908000" y="3139920"/>
              <a:ext cx="5688000" cy="0"/>
            </a:xfrm>
            <a:prstGeom prst="line">
              <a:avLst/>
            </a:prstGeom>
            <a:ln w="57240">
              <a:solidFill>
                <a:srgbClr val="ff006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4" name="Line 7"/>
          <p:cNvSpPr/>
          <p:nvPr/>
        </p:nvSpPr>
        <p:spPr>
          <a:xfrm>
            <a:off x="4859280" y="476280"/>
            <a:ext cx="0" cy="5327640"/>
          </a:xfrm>
          <a:prstGeom prst="line">
            <a:avLst/>
          </a:prstGeom>
          <a:ln w="57240">
            <a:solidFill>
              <a:srgbClr val="ff006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7599960" y="404640"/>
            <a:ext cx="789840" cy="73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一竖穿扁口上短下更长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3352680" y="-171360"/>
            <a:ext cx="300024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7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中</a:t>
            </a:r>
            <a:endParaRPr b="0" i="1" lang="en-US" sz="3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7" name="图片 17417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11280" y="2421000"/>
          <a:ext cx="3106800" cy="3073320"/>
        </p:xfrm>
        <a:graphic>
          <a:graphicData uri="http://schemas.openxmlformats.org/drawingml/2006/table">
            <a:tbl>
              <a:tblPr/>
              <a:tblGrid>
                <a:gridCol w="1584360"/>
                <a:gridCol w="152244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0" name=""/>
          <p:cNvGraphicFramePr/>
          <p:nvPr/>
        </p:nvGraphicFramePr>
        <p:xfrm>
          <a:off x="5219640" y="2421000"/>
          <a:ext cx="3062160" cy="3073320"/>
        </p:xfrm>
        <a:graphic>
          <a:graphicData uri="http://schemas.openxmlformats.org/drawingml/2006/table">
            <a:tbl>
              <a:tblPr/>
              <a:tblGrid>
                <a:gridCol w="1562040"/>
                <a:gridCol w="1500120"/>
              </a:tblGrid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1" name="Text Box 26"/>
          <p:cNvSpPr/>
          <p:nvPr/>
        </p:nvSpPr>
        <p:spPr>
          <a:xfrm>
            <a:off x="1281600" y="1125360"/>
            <a:ext cx="195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shēn</a:t>
            </a:r>
            <a:r>
              <a:rPr b="0" i="1" lang="zh-CN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ɡ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Text Box 27"/>
          <p:cNvSpPr/>
          <p:nvPr/>
        </p:nvSpPr>
        <p:spPr>
          <a:xfrm>
            <a:off x="5364000" y="112536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zhōn</a:t>
            </a:r>
            <a:r>
              <a:rPr b="0" i="1" lang="zh-CN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ɡ</a:t>
            </a:r>
            <a:r>
              <a:rPr b="0" i="1" lang="en-US" sz="6000" spc="-1" strike="noStrike" u="sng">
                <a:solidFill>
                  <a:srgbClr val="990033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Text Box 28"/>
          <p:cNvSpPr/>
          <p:nvPr/>
        </p:nvSpPr>
        <p:spPr>
          <a:xfrm>
            <a:off x="971640" y="249228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升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29"/>
          <p:cNvSpPr/>
          <p:nvPr/>
        </p:nvSpPr>
        <p:spPr>
          <a:xfrm>
            <a:off x="5651640" y="2349360"/>
            <a:ext cx="2160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7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中</a:t>
            </a:r>
            <a:endParaRPr b="0" i="1" lang="en-US" sz="17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5" name="guzheng.mp3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9487" descr="kuang%20(36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33996" fill="hold"/>
                                        <p:tgtEl>
                                          <p:spTgt spid="5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-1116360" y="1197000"/>
            <a:ext cx="534996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842920" y="2133360"/>
            <a:ext cx="5562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画画我们的国旗，把你心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心愿写在国旗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20484" descr="r05"/>
          <p:cNvPicPr/>
          <p:nvPr/>
        </p:nvPicPr>
        <p:blipFill>
          <a:blip r:embed="rId1"/>
          <a:stretch/>
        </p:blipFill>
        <p:spPr>
          <a:xfrm>
            <a:off x="611280" y="2276640"/>
            <a:ext cx="2341440" cy="3911400"/>
          </a:xfrm>
          <a:prstGeom prst="rect">
            <a:avLst/>
          </a:prstGeom>
          <a:ln w="0">
            <a:noFill/>
          </a:ln>
        </p:spPr>
      </p:pic>
      <p:pic>
        <p:nvPicPr>
          <p:cNvPr id="591" name="图片 20485" descr="kuang%20(36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2" name="图片 4100" descr="1tC5+rn6xuw=_GTv6Yb6r5FRR"/>
          <p:cNvPicPr/>
          <p:nvPr/>
        </p:nvPicPr>
        <p:blipFill>
          <a:blip r:embed="rId1"/>
          <a:stretch/>
        </p:blipFill>
        <p:spPr>
          <a:xfrm>
            <a:off x="0" y="0"/>
            <a:ext cx="9144000" cy="66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图片 5127" descr="10303578_685613"/>
          <p:cNvPicPr/>
          <p:nvPr/>
        </p:nvPicPr>
        <p:blipFill>
          <a:blip r:embed="rId1"/>
          <a:stretch/>
        </p:blipFill>
        <p:spPr>
          <a:xfrm>
            <a:off x="1116000" y="907920"/>
            <a:ext cx="7056360" cy="4772160"/>
          </a:xfrm>
          <a:prstGeom prst="rect">
            <a:avLst/>
          </a:prstGeom>
          <a:ln w="0">
            <a:noFill/>
          </a:ln>
        </p:spPr>
      </p:pic>
      <p:pic>
        <p:nvPicPr>
          <p:cNvPr id="517" name="国歌.mp3" descr=""/>
          <p:cNvPicPr/>
          <p:nvPr/>
        </p:nvPicPr>
        <p:blipFill>
          <a:blip r:embed="rId2"/>
          <a:stretch/>
        </p:blipFill>
        <p:spPr>
          <a:xfrm>
            <a:off x="4572000" y="5805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021" fill="hold"/>
                                        <p:tgtEl>
                                          <p:spTgt spid="5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9" name="图片 6149" descr="QQ截图未命名"/>
          <p:cNvPicPr/>
          <p:nvPr/>
        </p:nvPicPr>
        <p:blipFill>
          <a:blip r:embed="rId1"/>
          <a:stretch/>
        </p:blipFill>
        <p:spPr>
          <a:xfrm>
            <a:off x="2556000" y="1341360"/>
            <a:ext cx="4157640" cy="424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生字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13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12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Arial"/>
              </a:rPr>
              <a:t>我们     国旗     升起    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2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100" spc="-1" strike="noStrike">
                <a:solidFill>
                  <a:srgbClr val="000000"/>
                </a:solidFill>
                <a:latin typeface="Arial"/>
              </a:rPr>
              <a:t>立正     敬礼     歌声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8197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图片 9221" descr="kuang%20(3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1" name="图片 9223" descr="QQ截图未命名"/>
          <p:cNvPicPr/>
          <p:nvPr/>
        </p:nvPicPr>
        <p:blipFill>
          <a:blip r:embed="rId2"/>
          <a:stretch/>
        </p:blipFill>
        <p:spPr>
          <a:xfrm>
            <a:off x="3112920" y="1700280"/>
            <a:ext cx="373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33" name="Picture 2" descr="RFNDXzI2MzcguA==_LzDatIfprR8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绿色圃中小学教育网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lspjy.com</a:t>
            </a:r>
            <a:endParaRPr b="0" i="1" lang="en-US" sz="1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179280" y="47628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ɡuó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qí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zhē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ěi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国    旗  国   旗   真    美    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jīn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xīnɡ zh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o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dì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金    星     金     星     照    大  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wǒ yu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n bi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n duǒ xiǎo hónɡ yún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我    愿    变    朵    小     红   云 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fēi sh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nɡ lán tiān qīn qīn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nǐ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飞    上    蓝  天     亲   亲   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50:25Z</dcterms:created>
  <dc:creator/>
  <dc:description/>
  <dc:language>en-US</dc:language>
  <cp:lastModifiedBy>万润仪器贸易公司</cp:lastModifiedBy>
  <dcterms:modified xsi:type="dcterms:W3CDTF">2020-08-24T01:54:1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